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325-B789-43E5-BB4F-CBB2256E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398-7968-4BE9-8365-1DCDE096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6F62-FA0B-4F1C-9D64-B3BFC618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AB29-1832-4880-B044-4485F3ED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CACA-03BE-44A5-B1F2-69B89680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1DFD-326E-40FC-A826-1BFCDD7C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AAE-DFA8-49FC-9D04-B4179891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A04-5E62-4998-B54C-BA8ED5C4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58D-792F-49D4-A49F-BE28866C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D43F-90A8-4B65-90B4-8D3A031C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F22D-CF6E-4914-9728-19158496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227-E68A-4584-A9FF-915889EB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5EAE-59A4-4D84-B58C-683CD5CF1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uro.who.int/document/E79876.pdf" TargetMode="External"/><Relationship Id="rId3" Type="http://schemas.openxmlformats.org/officeDocument/2006/relationships/hyperlink" Target="http://www.euro.who.int/document/E79876.pdf" TargetMode="External"/><Relationship Id="rId4" Type="http://schemas.openxmlformats.org/officeDocument/2006/relationships/hyperlink" Target="http://www.euro.who.int/document/E79876.pdf" TargetMode="External"/><Relationship Id="rId5" Type="http://schemas.openxmlformats.org/officeDocument/2006/relationships/hyperlink" Target="http://www.euro.who.int/document/E79876.pdf" TargetMode="Externa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uro.who.int/document/E79876.pdf" TargetMode="External"/><Relationship Id="rId3" Type="http://schemas.openxmlformats.org/officeDocument/2006/relationships/hyperlink" Target="http://www.euro.who.int/document/E79876.pdf" TargetMode="External"/><Relationship Id="rId4" Type="http://schemas.openxmlformats.org/officeDocument/2006/relationships/hyperlink" Target="http://www.euro.who.int/document/E79876.pdf" TargetMode="External"/><Relationship Id="rId5" Type="http://schemas.openxmlformats.org/officeDocument/2006/relationships/hyperlink" Target="http://www.euro.who.int/document/E79876.pdf" TargetMode="Externa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uro.who.int/document/E79876.pdf" TargetMode="External"/><Relationship Id="rId3" Type="http://schemas.openxmlformats.org/officeDocument/2006/relationships/hyperlink" Target="http://www.euro.who.int/document/E79876.pdf" TargetMode="External"/><Relationship Id="rId4" Type="http://schemas.openxmlformats.org/officeDocument/2006/relationships/hyperlink" Target="http://www.euro.who.int/document/E79876.pdf" TargetMode="External"/><Relationship Id="rId5" Type="http://schemas.openxmlformats.org/officeDocument/2006/relationships/hyperlink" Target="http://www.euro.who.int/document/E79876.pdf" TargetMode="External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uro.who.int/document/E79876.pdf" TargetMode="External"/><Relationship Id="rId3" Type="http://schemas.openxmlformats.org/officeDocument/2006/relationships/hyperlink" Target="http://www.euro.who.int/document/E79876.pdf" TargetMode="External"/><Relationship Id="rId4" Type="http://schemas.openxmlformats.org/officeDocument/2006/relationships/hyperlink" Target="http://www.euro.who.int/document/E79876.pdf" TargetMode="External"/><Relationship Id="rId5" Type="http://schemas.openxmlformats.org/officeDocument/2006/relationships/hyperlink" Target="http://www.euro.who.int/document/E79876.pdf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677360" cy="520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La crisi demografica dell’ 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ti per malattie cardiovascol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1"/>
          <a:srcRect l="4899" t="5259" r="9808" b="2638"/>
          <a:stretch/>
        </p:blipFill>
        <p:spPr>
          <a:xfrm>
            <a:off x="914400" y="838080"/>
            <a:ext cx="6629400" cy="510552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/>
          <p:nvPr/>
        </p:nvSpPr>
        <p:spPr>
          <a:xfrm>
            <a:off x="380880" y="6019920"/>
            <a:ext cx="792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e: Atlante della Salute in Europa, World Health Organization, 2003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uro.who.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int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/document/E79876.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" descr=""/>
          <p:cNvPicPr/>
          <p:nvPr/>
        </p:nvPicPr>
        <p:blipFill>
          <a:blip r:embed="rId1"/>
          <a:srcRect l="7377" t="10136" r="6866" b="2530"/>
          <a:stretch/>
        </p:blipFill>
        <p:spPr>
          <a:xfrm>
            <a:off x="533520" y="533520"/>
            <a:ext cx="7543800" cy="558936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228600" y="6172200"/>
            <a:ext cx="792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e: Atlante della Salute in Europa, World Health Organization, 2003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uro.who.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int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/document/E79876.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ti per cause  esterne di lesioni o avvele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orti per incidenti d’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"/>
          <a:srcRect l="0" t="5797" r="0" b="4348"/>
          <a:stretch/>
        </p:blipFill>
        <p:spPr>
          <a:xfrm>
            <a:off x="914400" y="990720"/>
            <a:ext cx="7315200" cy="472428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228600" y="6172200"/>
            <a:ext cx="792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e: Atlante della Salute in Europa, World Health Organization, 2003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uro.who.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int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/document/E79876.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427560" y="571500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100.000 abit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ti per suici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rcRect l="0" t="7689" r="0" b="6155"/>
          <a:stretch/>
        </p:blipFill>
        <p:spPr>
          <a:xfrm>
            <a:off x="762120" y="990720"/>
            <a:ext cx="7162560" cy="472428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228600" y="6172200"/>
            <a:ext cx="792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e: Atlante della Salute in Europa, World Health Organization, 2003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uro.who.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int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/document/E79876.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427560" y="571500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100.000 abit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so di incremento naturale: la Russia Europ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984240"/>
          <a:ext cx="873108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4240"/>
                    <a:ext cx="87310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429000" y="1371600"/>
            <a:ext cx="0" cy="48769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5480" y="1371600"/>
            <a:ext cx="79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28600" y="914400"/>
            <a:ext cx="8381520" cy="5394960"/>
            <a:chOff x="228600" y="914400"/>
            <a:chExt cx="8381520" cy="5394960"/>
          </a:xfrm>
        </p:grpSpPr>
        <p:sp>
          <p:nvSpPr>
            <p:cNvPr id="49" name=""/>
            <p:cNvSpPr/>
            <p:nvPr/>
          </p:nvSpPr>
          <p:spPr>
            <a:xfrm>
              <a:off x="1403640" y="1010880"/>
              <a:ext cx="7204680" cy="46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03640" y="5641200"/>
              <a:ext cx="720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640" y="5060880"/>
              <a:ext cx="720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03640" y="3907800"/>
              <a:ext cx="72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03640" y="3325680"/>
              <a:ext cx="720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03640" y="2743920"/>
              <a:ext cx="720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03640" y="2174760"/>
              <a:ext cx="720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03640" y="1592640"/>
              <a:ext cx="720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03640" y="1010880"/>
              <a:ext cx="720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03640" y="1010880"/>
              <a:ext cx="7204680" cy="4630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03640" y="1010880"/>
              <a:ext cx="1440" cy="46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56840" y="5641200"/>
              <a:ext cx="4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56840" y="5060880"/>
              <a:ext cx="4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56840" y="4489560"/>
              <a:ext cx="46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56840" y="3907800"/>
              <a:ext cx="46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56840" y="3325680"/>
              <a:ext cx="4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56840" y="2743920"/>
              <a:ext cx="4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56840" y="2174760"/>
              <a:ext cx="4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56840" y="1592640"/>
              <a:ext cx="4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6840" y="1010880"/>
              <a:ext cx="4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03640" y="4489560"/>
              <a:ext cx="72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40364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586880" y="4489560"/>
              <a:ext cx="180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76940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95300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2148480" y="4489560"/>
              <a:ext cx="180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33100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51460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698200" y="4489560"/>
              <a:ext cx="180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88036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06432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24828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431520" y="4489560"/>
              <a:ext cx="180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62592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80988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399168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17564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435924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542840" y="4489560"/>
              <a:ext cx="180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72500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90896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10300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528660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47056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652360" y="4489560"/>
              <a:ext cx="180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83632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02028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20388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386040" y="4489560"/>
              <a:ext cx="180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658188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6763680" y="4489560"/>
              <a:ext cx="180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947640" y="4489560"/>
              <a:ext cx="180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13124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731520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497000" y="4489560"/>
              <a:ext cx="180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68096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86492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058600" y="4489560"/>
              <a:ext cx="180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24256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842652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8608320" y="4489560"/>
              <a:ext cx="180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77960" y="1592640"/>
              <a:ext cx="6839280" cy="1478520"/>
            </a:xfrm>
            <a:custGeom>
              <a:avLst/>
              <a:gdLst/>
              <a:ahLst/>
              <a:rect l="l" t="t" r="r" b="b"/>
              <a:pathLst>
                <a:path w="597" h="122">
                  <a:moveTo>
                    <a:pt x="0" y="48"/>
                  </a:moveTo>
                  <a:lnTo>
                    <a:pt x="16" y="52"/>
                  </a:lnTo>
                  <a:lnTo>
                    <a:pt x="32" y="62"/>
                  </a:lnTo>
                  <a:lnTo>
                    <a:pt x="49" y="65"/>
                  </a:lnTo>
                  <a:lnTo>
                    <a:pt x="65" y="62"/>
                  </a:lnTo>
                  <a:lnTo>
                    <a:pt x="81" y="57"/>
                  </a:lnTo>
                  <a:lnTo>
                    <a:pt x="97" y="50"/>
                  </a:lnTo>
                  <a:lnTo>
                    <a:pt x="113" y="46"/>
                  </a:lnTo>
                  <a:lnTo>
                    <a:pt x="129" y="48"/>
                  </a:lnTo>
                  <a:lnTo>
                    <a:pt x="145" y="40"/>
                  </a:lnTo>
                  <a:lnTo>
                    <a:pt x="161" y="37"/>
                  </a:lnTo>
                  <a:lnTo>
                    <a:pt x="178" y="33"/>
                  </a:lnTo>
                  <a:lnTo>
                    <a:pt x="194" y="33"/>
                  </a:lnTo>
                  <a:lnTo>
                    <a:pt x="210" y="30"/>
                  </a:lnTo>
                  <a:lnTo>
                    <a:pt x="226" y="30"/>
                  </a:lnTo>
                  <a:lnTo>
                    <a:pt x="242" y="28"/>
                  </a:lnTo>
                  <a:lnTo>
                    <a:pt x="258" y="25"/>
                  </a:lnTo>
                  <a:lnTo>
                    <a:pt x="274" y="16"/>
                  </a:lnTo>
                  <a:lnTo>
                    <a:pt x="291" y="2"/>
                  </a:lnTo>
                  <a:lnTo>
                    <a:pt x="307" y="8"/>
                  </a:lnTo>
                  <a:lnTo>
                    <a:pt x="323" y="12"/>
                  </a:lnTo>
                  <a:lnTo>
                    <a:pt x="339" y="1"/>
                  </a:lnTo>
                  <a:lnTo>
                    <a:pt x="355" y="0"/>
                  </a:lnTo>
                  <a:lnTo>
                    <a:pt x="371" y="14"/>
                  </a:lnTo>
                  <a:lnTo>
                    <a:pt x="387" y="32"/>
                  </a:lnTo>
                  <a:lnTo>
                    <a:pt x="403" y="49"/>
                  </a:lnTo>
                  <a:lnTo>
                    <a:pt x="420" y="67"/>
                  </a:lnTo>
                  <a:lnTo>
                    <a:pt x="436" y="87"/>
                  </a:lnTo>
                  <a:lnTo>
                    <a:pt x="452" y="107"/>
                  </a:lnTo>
                  <a:lnTo>
                    <a:pt x="468" y="104"/>
                  </a:lnTo>
                  <a:lnTo>
                    <a:pt x="484" y="108"/>
                  </a:lnTo>
                  <a:lnTo>
                    <a:pt x="500" y="114"/>
                  </a:lnTo>
                  <a:lnTo>
                    <a:pt x="516" y="118"/>
                  </a:lnTo>
                  <a:lnTo>
                    <a:pt x="532" y="116"/>
                  </a:lnTo>
                  <a:lnTo>
                    <a:pt x="549" y="122"/>
                  </a:lnTo>
                  <a:lnTo>
                    <a:pt x="565" y="118"/>
                  </a:lnTo>
                  <a:lnTo>
                    <a:pt x="581" y="113"/>
                  </a:lnTo>
                  <a:lnTo>
                    <a:pt x="597" y="105"/>
                  </a:lnTo>
                </a:path>
              </a:pathLst>
            </a:cu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77960" y="1787040"/>
              <a:ext cx="6839280" cy="1587600"/>
            </a:xfrm>
            <a:custGeom>
              <a:avLst/>
              <a:gdLst/>
              <a:ahLst/>
              <a:rect l="l" t="t" r="r" b="b"/>
              <a:pathLst>
                <a:path w="597" h="131">
                  <a:moveTo>
                    <a:pt x="0" y="131"/>
                  </a:moveTo>
                  <a:lnTo>
                    <a:pt x="16" y="129"/>
                  </a:lnTo>
                  <a:lnTo>
                    <a:pt x="32" y="125"/>
                  </a:lnTo>
                  <a:lnTo>
                    <a:pt x="49" y="123"/>
                  </a:lnTo>
                  <a:lnTo>
                    <a:pt x="65" y="117"/>
                  </a:lnTo>
                  <a:lnTo>
                    <a:pt x="81" y="114"/>
                  </a:lnTo>
                  <a:lnTo>
                    <a:pt x="97" y="113"/>
                  </a:lnTo>
                  <a:lnTo>
                    <a:pt x="113" y="110"/>
                  </a:lnTo>
                  <a:lnTo>
                    <a:pt x="129" y="107"/>
                  </a:lnTo>
                  <a:lnTo>
                    <a:pt x="145" y="106"/>
                  </a:lnTo>
                  <a:lnTo>
                    <a:pt x="161" y="97"/>
                  </a:lnTo>
                  <a:lnTo>
                    <a:pt x="178" y="93"/>
                  </a:lnTo>
                  <a:lnTo>
                    <a:pt x="194" y="90"/>
                  </a:lnTo>
                  <a:lnTo>
                    <a:pt x="210" y="87"/>
                  </a:lnTo>
                  <a:lnTo>
                    <a:pt x="226" y="80"/>
                  </a:lnTo>
                  <a:lnTo>
                    <a:pt x="242" y="77"/>
                  </a:lnTo>
                  <a:lnTo>
                    <a:pt x="258" y="77"/>
                  </a:lnTo>
                  <a:lnTo>
                    <a:pt x="274" y="79"/>
                  </a:lnTo>
                  <a:lnTo>
                    <a:pt x="291" y="73"/>
                  </a:lnTo>
                  <a:lnTo>
                    <a:pt x="307" y="65"/>
                  </a:lnTo>
                  <a:lnTo>
                    <a:pt x="323" y="67"/>
                  </a:lnTo>
                  <a:lnTo>
                    <a:pt x="339" y="79"/>
                  </a:lnTo>
                  <a:lnTo>
                    <a:pt x="355" y="76"/>
                  </a:lnTo>
                  <a:lnTo>
                    <a:pt x="371" y="73"/>
                  </a:lnTo>
                  <a:lnTo>
                    <a:pt x="387" y="71"/>
                  </a:lnTo>
                  <a:lnTo>
                    <a:pt x="403" y="64"/>
                  </a:lnTo>
                  <a:lnTo>
                    <a:pt x="420" y="61"/>
                  </a:lnTo>
                  <a:lnTo>
                    <a:pt x="436" y="50"/>
                  </a:lnTo>
                  <a:lnTo>
                    <a:pt x="452" y="19"/>
                  </a:lnTo>
                  <a:lnTo>
                    <a:pt x="468" y="3"/>
                  </a:lnTo>
                  <a:lnTo>
                    <a:pt x="484" y="12"/>
                  </a:lnTo>
                  <a:lnTo>
                    <a:pt x="500" y="24"/>
                  </a:lnTo>
                  <a:lnTo>
                    <a:pt x="516" y="30"/>
                  </a:lnTo>
                  <a:lnTo>
                    <a:pt x="532" y="33"/>
                  </a:lnTo>
                  <a:lnTo>
                    <a:pt x="549" y="18"/>
                  </a:lnTo>
                  <a:lnTo>
                    <a:pt x="565" y="10"/>
                  </a:lnTo>
                  <a:lnTo>
                    <a:pt x="581" y="7"/>
                  </a:lnTo>
                  <a:lnTo>
                    <a:pt x="597" y="0"/>
                  </a:lnTo>
                </a:path>
              </a:pathLst>
            </a:custGeom>
            <a:noFill/>
            <a:ln w="11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77960" y="3289320"/>
              <a:ext cx="6839280" cy="2304000"/>
            </a:xfrm>
            <a:custGeom>
              <a:avLst/>
              <a:gdLst/>
              <a:ahLst/>
              <a:rect l="l" t="t" r="r" b="b"/>
              <a:pathLst>
                <a:path w="597" h="190">
                  <a:moveTo>
                    <a:pt x="0" y="0"/>
                  </a:moveTo>
                  <a:lnTo>
                    <a:pt x="16" y="5"/>
                  </a:lnTo>
                  <a:lnTo>
                    <a:pt x="32" y="19"/>
                  </a:lnTo>
                  <a:lnTo>
                    <a:pt x="49" y="24"/>
                  </a:lnTo>
                  <a:lnTo>
                    <a:pt x="65" y="28"/>
                  </a:lnTo>
                  <a:lnTo>
                    <a:pt x="81" y="25"/>
                  </a:lnTo>
                  <a:lnTo>
                    <a:pt x="97" y="19"/>
                  </a:lnTo>
                  <a:lnTo>
                    <a:pt x="113" y="19"/>
                  </a:lnTo>
                  <a:lnTo>
                    <a:pt x="129" y="24"/>
                  </a:lnTo>
                  <a:lnTo>
                    <a:pt x="145" y="17"/>
                  </a:lnTo>
                  <a:lnTo>
                    <a:pt x="161" y="22"/>
                  </a:lnTo>
                  <a:lnTo>
                    <a:pt x="178" y="23"/>
                  </a:lnTo>
                  <a:lnTo>
                    <a:pt x="194" y="25"/>
                  </a:lnTo>
                  <a:lnTo>
                    <a:pt x="210" y="26"/>
                  </a:lnTo>
                  <a:lnTo>
                    <a:pt x="226" y="33"/>
                  </a:lnTo>
                  <a:lnTo>
                    <a:pt x="242" y="34"/>
                  </a:lnTo>
                  <a:lnTo>
                    <a:pt x="258" y="30"/>
                  </a:lnTo>
                  <a:lnTo>
                    <a:pt x="274" y="20"/>
                  </a:lnTo>
                  <a:lnTo>
                    <a:pt x="291" y="11"/>
                  </a:lnTo>
                  <a:lnTo>
                    <a:pt x="307" y="26"/>
                  </a:lnTo>
                  <a:lnTo>
                    <a:pt x="323" y="27"/>
                  </a:lnTo>
                  <a:lnTo>
                    <a:pt x="339" y="4"/>
                  </a:lnTo>
                  <a:lnTo>
                    <a:pt x="355" y="6"/>
                  </a:lnTo>
                  <a:lnTo>
                    <a:pt x="371" y="24"/>
                  </a:lnTo>
                  <a:lnTo>
                    <a:pt x="387" y="43"/>
                  </a:lnTo>
                  <a:lnTo>
                    <a:pt x="403" y="67"/>
                  </a:lnTo>
                  <a:lnTo>
                    <a:pt x="420" y="89"/>
                  </a:lnTo>
                  <a:lnTo>
                    <a:pt x="436" y="119"/>
                  </a:lnTo>
                  <a:lnTo>
                    <a:pt x="452" y="170"/>
                  </a:lnTo>
                  <a:lnTo>
                    <a:pt x="468" y="184"/>
                  </a:lnTo>
                  <a:lnTo>
                    <a:pt x="484" y="179"/>
                  </a:lnTo>
                  <a:lnTo>
                    <a:pt x="500" y="173"/>
                  </a:lnTo>
                  <a:lnTo>
                    <a:pt x="516" y="171"/>
                  </a:lnTo>
                  <a:lnTo>
                    <a:pt x="532" y="166"/>
                  </a:lnTo>
                  <a:lnTo>
                    <a:pt x="549" y="187"/>
                  </a:lnTo>
                  <a:lnTo>
                    <a:pt x="565" y="190"/>
                  </a:lnTo>
                  <a:lnTo>
                    <a:pt x="581" y="189"/>
                  </a:lnTo>
                  <a:lnTo>
                    <a:pt x="597" y="188"/>
                  </a:lnTo>
                </a:path>
              </a:pathLst>
            </a:custGeom>
            <a:noFill/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60160" y="122904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43760" y="213840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27720" y="218736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11680" y="230724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5360" y="234360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89320" y="230724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71120" y="2247120"/>
              <a:ext cx="6876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55080" y="216180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39040" y="211428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0840" y="2138400"/>
              <a:ext cx="70200" cy="72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21" y="0"/>
                  </a:moveTo>
                  <a:lnTo>
                    <a:pt x="41" y="20"/>
                  </a:lnTo>
                  <a:lnTo>
                    <a:pt x="21" y="40"/>
                  </a:lnTo>
                  <a:lnTo>
                    <a:pt x="0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04800" y="204192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88400" y="200556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82440" y="195660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66400" y="195660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50000" y="191988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32160" y="1919880"/>
              <a:ext cx="6876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15760" y="189612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99720" y="185976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83680" y="175068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77360" y="1581480"/>
              <a:ext cx="6876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61320" y="165456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43120" y="1701720"/>
              <a:ext cx="6876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27080" y="1568880"/>
              <a:ext cx="6876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11040" y="155592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94640" y="172728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76800" y="1945440"/>
              <a:ext cx="68760" cy="7092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20" y="0"/>
                  </a:moveTo>
                  <a:lnTo>
                    <a:pt x="40" y="19"/>
                  </a:lnTo>
                  <a:lnTo>
                    <a:pt x="20" y="39"/>
                  </a:lnTo>
                  <a:lnTo>
                    <a:pt x="0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60400" y="2150640"/>
              <a:ext cx="6876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54800" y="236916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38400" y="261108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22000" y="285300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05960" y="281628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87760" y="2865600"/>
              <a:ext cx="6876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71720" y="293832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55680" y="298764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37840" y="296208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33320" y="303480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15480" y="298764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99440" y="292572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83040" y="2829240"/>
              <a:ext cx="6876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60160" y="3423960"/>
              <a:ext cx="6840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43760" y="333864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7720" y="331488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11680" y="326592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05360" y="3242160"/>
              <a:ext cx="6840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89320" y="316944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71120" y="3133080"/>
              <a:ext cx="6876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55080" y="312048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39040" y="308412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20840" y="3047400"/>
              <a:ext cx="7020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04800" y="303480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88400" y="292572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2440" y="2878200"/>
              <a:ext cx="6876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66400" y="284184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50000" y="280548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2160" y="2720160"/>
              <a:ext cx="6876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15760" y="2683440"/>
              <a:ext cx="6876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99720" y="2683440"/>
              <a:ext cx="6840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83680" y="270756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7360" y="2634480"/>
              <a:ext cx="6876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61320" y="253836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43120" y="2561760"/>
              <a:ext cx="6876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27080" y="2707560"/>
              <a:ext cx="6876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11040" y="267120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94640" y="2634480"/>
              <a:ext cx="6840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76800" y="2611080"/>
              <a:ext cx="6876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60400" y="2525760"/>
              <a:ext cx="6876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54800" y="248940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38400" y="2356560"/>
              <a:ext cx="6876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22000" y="1980000"/>
              <a:ext cx="6876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05960" y="1787040"/>
              <a:ext cx="6840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87760" y="1896120"/>
              <a:ext cx="6876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71720" y="2041920"/>
              <a:ext cx="6876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55680" y="2114280"/>
              <a:ext cx="6876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37840" y="2150640"/>
              <a:ext cx="6840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33320" y="1968840"/>
              <a:ext cx="6876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15480" y="187272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99440" y="183636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83040" y="1750680"/>
              <a:ext cx="6876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60160" y="224712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43760" y="325296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27720" y="331488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11680" y="348408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05360" y="354384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89320" y="359280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71120" y="3556800"/>
              <a:ext cx="6876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55080" y="348408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39040" y="348408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20840" y="3543840"/>
              <a:ext cx="70200" cy="7272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21" y="0"/>
                  </a:moveTo>
                  <a:lnTo>
                    <a:pt x="41" y="40"/>
                  </a:lnTo>
                  <a:lnTo>
                    <a:pt x="0" y="4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04800" y="346032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88400" y="352044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82440" y="353304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66400" y="355680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50000" y="356940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32160" y="365328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15760" y="366588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99720" y="361692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83680" y="349704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77360" y="338760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61320" y="356940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43120" y="3580200"/>
              <a:ext cx="6876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27080" y="330228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11040" y="332568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94640" y="354384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76800" y="3774960"/>
              <a:ext cx="6876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60400" y="406584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54800" y="433332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38400" y="469692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22000" y="531360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05960" y="548424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87760" y="5422680"/>
              <a:ext cx="6876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71720" y="534996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55680" y="532656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37840" y="526608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33320" y="552096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115480" y="555732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299440" y="554472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83040" y="553176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1640" y="5544720"/>
              <a:ext cx="60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7200" y="4962600"/>
              <a:ext cx="49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09600" y="4393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1480" y="38109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8800" y="322920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8800" y="26470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5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8800" y="20782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8800" y="14961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5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8800" y="91440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8900000">
              <a:off x="1169280" y="57747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8900000">
              <a:off x="1352520" y="57751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6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900000">
              <a:off x="2280960" y="57772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900000">
              <a:off x="3195720" y="57751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900000">
              <a:off x="4123080" y="57751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8900000">
              <a:off x="5052600" y="57751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8900000">
              <a:off x="5970240" y="57772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8900000">
              <a:off x="6897600" y="57772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8900000">
              <a:off x="7822800" y="57747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8900000">
              <a:off x="8188560" y="57751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49560" y="6126480"/>
              <a:ext cx="35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-71640" y="3210840"/>
              <a:ext cx="76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opolazio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91080" y="3533040"/>
              <a:ext cx="1231560" cy="1356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59480" y="3665880"/>
              <a:ext cx="309240" cy="144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75040" y="362952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03280" y="3556800"/>
              <a:ext cx="46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asci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59480" y="4102200"/>
              <a:ext cx="309240" cy="1440"/>
            </a:xfrm>
            <a:prstGeom prst="line">
              <a:avLst/>
            </a:prstGeom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75040" y="406584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701480" y="3993120"/>
              <a:ext cx="31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rt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59480" y="4551480"/>
              <a:ext cx="309240" cy="1800"/>
            </a:xfrm>
            <a:prstGeom prst="line">
              <a:avLst/>
            </a:prstGeom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75040" y="451512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00400" y="444240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cremen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02560" y="4635000"/>
              <a:ext cx="5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atura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ussia: Nascite, morti e incremento naturale nella popolazione: 1960, 1965-2002 (valori assolut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24480" y="990720"/>
            <a:ext cx="0" cy="52578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83600" y="1143000"/>
            <a:ext cx="79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ati e morti: Russia e Europa del N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844560" y="1608120"/>
          <a:ext cx="775476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608120"/>
                    <a:ext cx="775476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5257800" y="1371600"/>
            <a:ext cx="0" cy="48769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64280" y="1371600"/>
            <a:ext cx="79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Il 19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9 aprile - Unione Sovietica: La Georgia dichiara l' indipenden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 luglio - Viene sciolto ufficialmente il Patto di Varsav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9 agosto - Mosca/Unione Sovietica: tentativo di colpo di sta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0 agosto - Unione Sovietica: L'Estonia dichiara l' indipenden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1 agosto - Unione Sovietica: La Lettonia dichiara l' indipenden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5 agosto - Unione Sovietica: La Bielorussia dichiara l' indipenden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30 agosto - Unione Sovietica: L'Azerbaijan dichiara l' indipenden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1 settembre - Unione Sovietica: L'Armenia dichiara l' indipenden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1 dicembre - Nasce a Maastricht l'Unione Europe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5 dicembre - Unione Sovietica: Mikhail Gorbachev rassegna le proprie dimissioni da presidente dell'UR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6 dicembre - Unione Sovietica: Il Soviet Supremo scioglie formalmente l'UR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rtalità standardizzata per età, 1965-2001: Decessi per tutte le cau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80880" y="762120"/>
            <a:ext cx="8475480" cy="5780160"/>
            <a:chOff x="380880" y="762120"/>
            <a:chExt cx="8475480" cy="5780160"/>
          </a:xfrm>
        </p:grpSpPr>
        <p:sp>
          <p:nvSpPr>
            <p:cNvPr id="274" name=""/>
            <p:cNvSpPr/>
            <p:nvPr/>
          </p:nvSpPr>
          <p:spPr>
            <a:xfrm>
              <a:off x="1430280" y="1591560"/>
              <a:ext cx="6102360" cy="409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30280" y="5177160"/>
              <a:ext cx="610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30280" y="4667760"/>
              <a:ext cx="610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30280" y="4156560"/>
              <a:ext cx="6102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30280" y="3647520"/>
              <a:ext cx="6102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30280" y="3122280"/>
              <a:ext cx="6102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30280" y="2611440"/>
              <a:ext cx="610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30280" y="2102400"/>
              <a:ext cx="610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30280" y="1591560"/>
              <a:ext cx="610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30280" y="1591560"/>
              <a:ext cx="6102360" cy="4096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30280" y="1591560"/>
              <a:ext cx="1440" cy="409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92120" y="56880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92120" y="54244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92120" y="51771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92120" y="491544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92120" y="46677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92120" y="440424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92120" y="415656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92120" y="389484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92120" y="364752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92120" y="33840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92120" y="312228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92120" y="28749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92120" y="261144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92120" y="23641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92120" y="21024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92120" y="18550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92120" y="15915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7720" y="568800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77720" y="517716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377720" y="466776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77720" y="415656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77720" y="364752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77720" y="312228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77720" y="261144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77720" y="210240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77720" y="159156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30280" y="5688000"/>
              <a:ext cx="610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143028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160164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175896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192852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08584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25576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42568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58264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75400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91132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08124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25116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40812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57804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73536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390492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407664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423360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440352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56084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73076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488772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5764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22900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538632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55624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71320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588312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05304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21000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637992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53724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670860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687852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703548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720540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736272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53264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09480" y="1635480"/>
              <a:ext cx="5945400" cy="2331720"/>
            </a:xfrm>
            <a:custGeom>
              <a:avLst/>
              <a:gdLst/>
              <a:ahLst/>
              <a:rect l="l" t="t" r="r" b="b"/>
              <a:pathLst>
                <a:path w="454" h="160">
                  <a:moveTo>
                    <a:pt x="0" y="160"/>
                  </a:moveTo>
                  <a:lnTo>
                    <a:pt x="13" y="158"/>
                  </a:lnTo>
                  <a:lnTo>
                    <a:pt x="25" y="150"/>
                  </a:lnTo>
                  <a:lnTo>
                    <a:pt x="38" y="145"/>
                  </a:lnTo>
                  <a:lnTo>
                    <a:pt x="51" y="126"/>
                  </a:lnTo>
                  <a:lnTo>
                    <a:pt x="63" y="119"/>
                  </a:lnTo>
                  <a:lnTo>
                    <a:pt x="76" y="122"/>
                  </a:lnTo>
                  <a:lnTo>
                    <a:pt x="88" y="120"/>
                  </a:lnTo>
                  <a:lnTo>
                    <a:pt x="101" y="119"/>
                  </a:lnTo>
                  <a:lnTo>
                    <a:pt x="114" y="124"/>
                  </a:lnTo>
                  <a:lnTo>
                    <a:pt x="126" y="109"/>
                  </a:lnTo>
                  <a:lnTo>
                    <a:pt x="139" y="107"/>
                  </a:lnTo>
                  <a:lnTo>
                    <a:pt x="151" y="103"/>
                  </a:lnTo>
                  <a:lnTo>
                    <a:pt x="164" y="103"/>
                  </a:lnTo>
                  <a:lnTo>
                    <a:pt x="177" y="92"/>
                  </a:lnTo>
                  <a:lnTo>
                    <a:pt x="189" y="90"/>
                  </a:lnTo>
                  <a:lnTo>
                    <a:pt x="202" y="91"/>
                  </a:lnTo>
                  <a:lnTo>
                    <a:pt x="214" y="100"/>
                  </a:lnTo>
                  <a:lnTo>
                    <a:pt x="227" y="100"/>
                  </a:lnTo>
                  <a:lnTo>
                    <a:pt x="240" y="88"/>
                  </a:lnTo>
                  <a:lnTo>
                    <a:pt x="252" y="101"/>
                  </a:lnTo>
                  <a:lnTo>
                    <a:pt x="265" y="133"/>
                  </a:lnTo>
                  <a:lnTo>
                    <a:pt x="277" y="132"/>
                  </a:lnTo>
                  <a:lnTo>
                    <a:pt x="290" y="130"/>
                  </a:lnTo>
                  <a:lnTo>
                    <a:pt x="303" y="128"/>
                  </a:lnTo>
                  <a:lnTo>
                    <a:pt x="315" y="128"/>
                  </a:lnTo>
                  <a:lnTo>
                    <a:pt x="328" y="119"/>
                  </a:lnTo>
                  <a:lnTo>
                    <a:pt x="340" y="100"/>
                  </a:lnTo>
                  <a:lnTo>
                    <a:pt x="353" y="35"/>
                  </a:lnTo>
                  <a:lnTo>
                    <a:pt x="366" y="0"/>
                  </a:lnTo>
                  <a:lnTo>
                    <a:pt x="378" y="32"/>
                  </a:lnTo>
                  <a:lnTo>
                    <a:pt x="391" y="58"/>
                  </a:lnTo>
                  <a:lnTo>
                    <a:pt x="403" y="82"/>
                  </a:lnTo>
                  <a:lnTo>
                    <a:pt x="416" y="91"/>
                  </a:lnTo>
                  <a:lnTo>
                    <a:pt x="429" y="65"/>
                  </a:lnTo>
                  <a:lnTo>
                    <a:pt x="441" y="50"/>
                  </a:lnTo>
                  <a:lnTo>
                    <a:pt x="454" y="4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09480" y="4901400"/>
              <a:ext cx="5945400" cy="597240"/>
            </a:xfrm>
            <a:custGeom>
              <a:avLst/>
              <a:gdLst/>
              <a:ahLst/>
              <a:rect l="l" t="t" r="r" b="b"/>
              <a:pathLst>
                <a:path w="454" h="41">
                  <a:moveTo>
                    <a:pt x="0" y="38"/>
                  </a:moveTo>
                  <a:lnTo>
                    <a:pt x="13" y="40"/>
                  </a:lnTo>
                  <a:lnTo>
                    <a:pt x="25" y="37"/>
                  </a:lnTo>
                  <a:lnTo>
                    <a:pt x="38" y="39"/>
                  </a:lnTo>
                  <a:lnTo>
                    <a:pt x="51" y="34"/>
                  </a:lnTo>
                  <a:lnTo>
                    <a:pt x="63" y="34"/>
                  </a:lnTo>
                  <a:lnTo>
                    <a:pt x="76" y="37"/>
                  </a:lnTo>
                  <a:lnTo>
                    <a:pt x="88" y="35"/>
                  </a:lnTo>
                  <a:lnTo>
                    <a:pt x="101" y="34"/>
                  </a:lnTo>
                  <a:lnTo>
                    <a:pt x="114" y="39"/>
                  </a:lnTo>
                  <a:lnTo>
                    <a:pt x="126" y="31"/>
                  </a:lnTo>
                  <a:lnTo>
                    <a:pt x="139" y="30"/>
                  </a:lnTo>
                  <a:lnTo>
                    <a:pt x="151" y="32"/>
                  </a:lnTo>
                  <a:lnTo>
                    <a:pt x="164" y="33"/>
                  </a:lnTo>
                  <a:lnTo>
                    <a:pt x="177" y="27"/>
                  </a:lnTo>
                  <a:lnTo>
                    <a:pt x="189" y="26"/>
                  </a:lnTo>
                  <a:lnTo>
                    <a:pt x="202" y="26"/>
                  </a:lnTo>
                  <a:lnTo>
                    <a:pt x="214" y="31"/>
                  </a:lnTo>
                  <a:lnTo>
                    <a:pt x="227" y="31"/>
                  </a:lnTo>
                  <a:lnTo>
                    <a:pt x="240" y="23"/>
                  </a:lnTo>
                  <a:lnTo>
                    <a:pt x="252" y="25"/>
                  </a:lnTo>
                  <a:lnTo>
                    <a:pt x="265" y="37"/>
                  </a:lnTo>
                  <a:lnTo>
                    <a:pt x="277" y="37"/>
                  </a:lnTo>
                  <a:lnTo>
                    <a:pt x="290" y="36"/>
                  </a:lnTo>
                  <a:lnTo>
                    <a:pt x="303" y="41"/>
                  </a:lnTo>
                  <a:lnTo>
                    <a:pt x="315" y="41"/>
                  </a:lnTo>
                  <a:lnTo>
                    <a:pt x="328" y="38"/>
                  </a:lnTo>
                  <a:lnTo>
                    <a:pt x="340" y="33"/>
                  </a:lnTo>
                  <a:lnTo>
                    <a:pt x="353" y="11"/>
                  </a:lnTo>
                  <a:lnTo>
                    <a:pt x="366" y="0"/>
                  </a:lnTo>
                  <a:lnTo>
                    <a:pt x="378" y="8"/>
                  </a:lnTo>
                  <a:lnTo>
                    <a:pt x="391" y="17"/>
                  </a:lnTo>
                  <a:lnTo>
                    <a:pt x="403" y="22"/>
                  </a:lnTo>
                  <a:lnTo>
                    <a:pt x="416" y="25"/>
                  </a:lnTo>
                  <a:lnTo>
                    <a:pt x="429" y="16"/>
                  </a:lnTo>
                  <a:lnTo>
                    <a:pt x="441" y="14"/>
                  </a:lnTo>
                  <a:lnTo>
                    <a:pt x="454" y="14"/>
                  </a:lnTo>
                </a:path>
              </a:pathLst>
            </a:custGeom>
            <a:noFill/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69880" y="3923280"/>
              <a:ext cx="79200" cy="88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5" y="0"/>
                  </a:moveTo>
                  <a:lnTo>
                    <a:pt x="50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39800" y="3894840"/>
              <a:ext cx="79200" cy="8676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5" y="0"/>
                  </a:moveTo>
                  <a:lnTo>
                    <a:pt x="50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96760" y="3778200"/>
              <a:ext cx="79560" cy="8676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5" y="0"/>
                  </a:moveTo>
                  <a:lnTo>
                    <a:pt x="50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68480" y="3706200"/>
              <a:ext cx="7776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49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38040" y="3428280"/>
              <a:ext cx="78120" cy="8856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5" y="0"/>
                  </a:moveTo>
                  <a:lnTo>
                    <a:pt x="49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95360" y="3326040"/>
              <a:ext cx="77760" cy="882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5" y="0"/>
                  </a:moveTo>
                  <a:lnTo>
                    <a:pt x="49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465280" y="3369960"/>
              <a:ext cx="79200" cy="88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5" y="0"/>
                  </a:moveTo>
                  <a:lnTo>
                    <a:pt x="50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22240" y="3341520"/>
              <a:ext cx="79560" cy="8640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5" y="0"/>
                  </a:moveTo>
                  <a:lnTo>
                    <a:pt x="50" y="24"/>
                  </a:lnTo>
                  <a:lnTo>
                    <a:pt x="25" y="49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92160" y="3326040"/>
              <a:ext cx="79560" cy="88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5" y="0"/>
                  </a:moveTo>
                  <a:lnTo>
                    <a:pt x="50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63880" y="3400200"/>
              <a:ext cx="7776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49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19400" y="3180960"/>
              <a:ext cx="79200" cy="8640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5" y="0"/>
                  </a:moveTo>
                  <a:lnTo>
                    <a:pt x="50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90760" y="3150720"/>
              <a:ext cx="77760" cy="882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4" y="0"/>
                  </a:moveTo>
                  <a:lnTo>
                    <a:pt x="49" y="25"/>
                  </a:lnTo>
                  <a:lnTo>
                    <a:pt x="24" y="50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47720" y="3094200"/>
              <a:ext cx="7812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49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17640" y="3094200"/>
              <a:ext cx="7776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0"/>
                  </a:moveTo>
                  <a:lnTo>
                    <a:pt x="49" y="24"/>
                  </a:lnTo>
                  <a:lnTo>
                    <a:pt x="25" y="49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560" y="2933280"/>
              <a:ext cx="79560" cy="8640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5" y="0"/>
                  </a:moveTo>
                  <a:lnTo>
                    <a:pt x="50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44880" y="2903400"/>
              <a:ext cx="79200" cy="88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5" y="0"/>
                  </a:moveTo>
                  <a:lnTo>
                    <a:pt x="50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14800" y="2918880"/>
              <a:ext cx="79200" cy="8640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5" y="0"/>
                  </a:moveTo>
                  <a:lnTo>
                    <a:pt x="50" y="24"/>
                  </a:lnTo>
                  <a:lnTo>
                    <a:pt x="25" y="49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71760" y="3050280"/>
              <a:ext cx="79560" cy="8640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5" y="0"/>
                  </a:moveTo>
                  <a:lnTo>
                    <a:pt x="50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43120" y="3050280"/>
              <a:ext cx="7776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49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13040" y="2874960"/>
              <a:ext cx="7776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0"/>
                  </a:moveTo>
                  <a:lnTo>
                    <a:pt x="49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70360" y="3063960"/>
              <a:ext cx="7776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0"/>
                  </a:moveTo>
                  <a:lnTo>
                    <a:pt x="49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40280" y="3530880"/>
              <a:ext cx="79200" cy="8640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5" y="0"/>
                  </a:moveTo>
                  <a:lnTo>
                    <a:pt x="50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97240" y="3516840"/>
              <a:ext cx="79560" cy="8640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5" y="0"/>
                  </a:moveTo>
                  <a:lnTo>
                    <a:pt x="50" y="24"/>
                  </a:lnTo>
                  <a:lnTo>
                    <a:pt x="25" y="49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67160" y="3486600"/>
              <a:ext cx="79560" cy="88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5" y="0"/>
                  </a:moveTo>
                  <a:lnTo>
                    <a:pt x="50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38520" y="3458160"/>
              <a:ext cx="7776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49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95840" y="3458160"/>
              <a:ext cx="7776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49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65760" y="3326040"/>
              <a:ext cx="77760" cy="882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5" y="0"/>
                  </a:moveTo>
                  <a:lnTo>
                    <a:pt x="49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22720" y="3050280"/>
              <a:ext cx="7776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0"/>
                  </a:moveTo>
                  <a:lnTo>
                    <a:pt x="49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2640" y="2102400"/>
              <a:ext cx="7776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0"/>
                  </a:moveTo>
                  <a:lnTo>
                    <a:pt x="49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62560" y="1591560"/>
              <a:ext cx="79200" cy="88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5" y="0"/>
                  </a:moveTo>
                  <a:lnTo>
                    <a:pt x="50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19520" y="2058120"/>
              <a:ext cx="79560" cy="88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5" y="0"/>
                  </a:moveTo>
                  <a:lnTo>
                    <a:pt x="50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89440" y="2438280"/>
              <a:ext cx="79560" cy="8640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5" y="0"/>
                  </a:moveTo>
                  <a:lnTo>
                    <a:pt x="50" y="24"/>
                  </a:lnTo>
                  <a:lnTo>
                    <a:pt x="25" y="49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46760" y="2786760"/>
              <a:ext cx="79200" cy="88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5" y="0"/>
                  </a:moveTo>
                  <a:lnTo>
                    <a:pt x="50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18120" y="2918880"/>
              <a:ext cx="7776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49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88040" y="2539080"/>
              <a:ext cx="77760" cy="8856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5" y="0"/>
                  </a:moveTo>
                  <a:lnTo>
                    <a:pt x="49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45360" y="2321640"/>
              <a:ext cx="7776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0"/>
                  </a:moveTo>
                  <a:lnTo>
                    <a:pt x="49" y="24"/>
                  </a:lnTo>
                  <a:lnTo>
                    <a:pt x="25" y="49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414920" y="2277360"/>
              <a:ext cx="79560" cy="8640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5" y="0"/>
                  </a:moveTo>
                  <a:lnTo>
                    <a:pt x="50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69880" y="5410440"/>
              <a:ext cx="79200" cy="882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39800" y="5440680"/>
              <a:ext cx="7920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96760" y="5396040"/>
              <a:ext cx="795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68480" y="5424480"/>
              <a:ext cx="77760" cy="882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38040" y="5351760"/>
              <a:ext cx="78120" cy="88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95360" y="5351760"/>
              <a:ext cx="77760" cy="88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65280" y="5396040"/>
              <a:ext cx="7920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22240" y="5365800"/>
              <a:ext cx="79560" cy="88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92160" y="5351760"/>
              <a:ext cx="79560" cy="88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63880" y="5424480"/>
              <a:ext cx="77760" cy="882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119400" y="5307840"/>
              <a:ext cx="79200" cy="882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90760" y="5293800"/>
              <a:ext cx="77760" cy="882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47720" y="5323680"/>
              <a:ext cx="7812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17640" y="5337720"/>
              <a:ext cx="777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87560" y="5251320"/>
              <a:ext cx="795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44880" y="5235120"/>
              <a:ext cx="79200" cy="88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14800" y="5235120"/>
              <a:ext cx="79200" cy="88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71760" y="5307840"/>
              <a:ext cx="79560" cy="882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43120" y="5307840"/>
              <a:ext cx="77760" cy="882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13040" y="5192640"/>
              <a:ext cx="777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770360" y="5221080"/>
              <a:ext cx="777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40280" y="5396040"/>
              <a:ext cx="7920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97240" y="5396040"/>
              <a:ext cx="795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67160" y="5382000"/>
              <a:ext cx="795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38520" y="5454720"/>
              <a:ext cx="777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95840" y="5454720"/>
              <a:ext cx="777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65760" y="5410440"/>
              <a:ext cx="77760" cy="882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22720" y="5337720"/>
              <a:ext cx="777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92640" y="5018040"/>
              <a:ext cx="777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62560" y="4856760"/>
              <a:ext cx="7920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19520" y="4973400"/>
              <a:ext cx="795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89440" y="5104440"/>
              <a:ext cx="79560" cy="882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46760" y="5177160"/>
              <a:ext cx="79200" cy="882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18120" y="5221080"/>
              <a:ext cx="777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88040" y="5090040"/>
              <a:ext cx="77760" cy="867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245360" y="5060160"/>
              <a:ext cx="77760" cy="88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14920" y="5060160"/>
              <a:ext cx="79560" cy="88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22240" y="762120"/>
              <a:ext cx="3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08120" y="1067760"/>
              <a:ext cx="3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23120" y="5571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91000" y="50601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91000" y="45507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91000" y="403992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91000" y="35308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6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91000" y="300564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8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91000" y="249624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91000" y="19857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,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91000" y="14763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,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8000000">
              <a:off x="1169640" y="59486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6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8000000">
              <a:off x="1993680" y="59486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8000000">
              <a:off x="2819160" y="59486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8000000">
              <a:off x="3644640" y="59486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000000">
              <a:off x="4468320" y="59482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8000000">
              <a:off x="5293800" y="59482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8000000">
              <a:off x="6119640" y="59486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8000000">
              <a:off x="6943320" y="59486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11720" y="6343920"/>
              <a:ext cx="384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n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164160" y="378936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rtalità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6200000">
              <a:off x="-375120" y="3763080"/>
              <a:ext cx="216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decessi per 100.000 abitanti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89600" y="3675960"/>
              <a:ext cx="1166760" cy="627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756200" y="3850920"/>
              <a:ext cx="35244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886520" y="3806640"/>
              <a:ext cx="79560" cy="88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5" y="0"/>
                  </a:moveTo>
                  <a:lnTo>
                    <a:pt x="50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149320" y="372024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omin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756200" y="4156560"/>
              <a:ext cx="352440" cy="18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886520" y="4114080"/>
              <a:ext cx="795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149320" y="402588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nn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371600"/>
            <a:ext cx="0" cy="48769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12000" y="1523880"/>
            <a:ext cx="79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0" y="1006560"/>
            <a:ext cx="8704800" cy="5851800"/>
            <a:chOff x="0" y="1006560"/>
            <a:chExt cx="8704800" cy="5851800"/>
          </a:xfrm>
        </p:grpSpPr>
        <p:sp>
          <p:nvSpPr>
            <p:cNvPr id="459" name=""/>
            <p:cNvSpPr/>
            <p:nvPr/>
          </p:nvSpPr>
          <p:spPr>
            <a:xfrm>
              <a:off x="952560" y="1119240"/>
              <a:ext cx="7646760" cy="438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52560" y="4953240"/>
              <a:ext cx="764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52560" y="4407120"/>
              <a:ext cx="764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52560" y="3862440"/>
              <a:ext cx="7646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952560" y="3316320"/>
              <a:ext cx="7646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52560" y="2756160"/>
              <a:ext cx="764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52560" y="2210040"/>
              <a:ext cx="764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52560" y="1663920"/>
              <a:ext cx="764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52560" y="1119240"/>
              <a:ext cx="7646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52560" y="1119240"/>
              <a:ext cx="7646760" cy="4380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22400" y="4127760"/>
              <a:ext cx="280800" cy="13716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724040" y="1846440"/>
              <a:ext cx="279360" cy="36529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09840" y="3035520"/>
              <a:ext cx="279360" cy="24638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09680" y="3316320"/>
              <a:ext cx="279360" cy="21830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09880" y="3176640"/>
              <a:ext cx="279360" cy="23227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95680" y="2224440"/>
              <a:ext cx="279360" cy="32749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95880" y="1733760"/>
              <a:ext cx="280800" cy="37656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81680" y="1651320"/>
              <a:ext cx="280800" cy="38480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81520" y="2055960"/>
              <a:ext cx="281160" cy="34434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81720" y="2727360"/>
              <a:ext cx="281160" cy="27720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968960" y="3834000"/>
              <a:ext cx="279720" cy="16653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03200" y="3679920"/>
              <a:ext cx="279360" cy="18194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003400" y="3441960"/>
              <a:ext cx="266760" cy="20574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89200" y="3316320"/>
              <a:ext cx="280800" cy="21830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9040" y="2965680"/>
              <a:ext cx="281160" cy="25336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89240" y="3764160"/>
              <a:ext cx="266760" cy="17352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75040" y="3610080"/>
              <a:ext cx="281160" cy="1889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76680" y="3540240"/>
              <a:ext cx="265320" cy="19591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162480" y="3554640"/>
              <a:ext cx="279360" cy="1944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62680" y="3063960"/>
              <a:ext cx="279360" cy="24354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562880" y="4029120"/>
              <a:ext cx="264960" cy="14702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248680" y="4394520"/>
              <a:ext cx="279360" cy="11048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52560" y="1119240"/>
              <a:ext cx="1440" cy="438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96760" y="549936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96760" y="495324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96760" y="440712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96760" y="3862440"/>
              <a:ext cx="55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96760" y="3316320"/>
              <a:ext cx="55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96760" y="275616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96760" y="221004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96760" y="166392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96760" y="1119240"/>
              <a:ext cx="55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52560" y="5499360"/>
              <a:ext cx="764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952560" y="54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1652400" y="54993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340000" y="54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3039840" y="54993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740040" y="54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425840" y="54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5126040" y="54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811840" y="54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511680" y="54993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211880" y="54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7899120" y="54993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8599320" y="54993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0160" y="538812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3680" y="48420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3680" y="4295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3680" y="37497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3680" y="320364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3680" y="264492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3680" y="20988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63680" y="15526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3680" y="10065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80720" y="565344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-19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766520" y="565344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-2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66360" y="565344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5-29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166560" y="565344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0-3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52360" y="565344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5-39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52560" y="565344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0-4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52400" y="565344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5-49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40000" y="565344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0-5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40200" y="565344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5-59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340040" y="565344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0-6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25840" y="565344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5-69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38000" y="5961240"/>
              <a:ext cx="97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assi di et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16200000">
              <a:off x="-1720800" y="3170160"/>
              <a:ext cx="3655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IAumento della mortalità standardizata per et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6200000">
              <a:off x="-182520" y="3032280"/>
              <a:ext cx="105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percentua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87680" y="1216080"/>
              <a:ext cx="1833480" cy="392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600360" y="1355760"/>
              <a:ext cx="111240" cy="112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53720" y="1285920"/>
              <a:ext cx="55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omi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11440" y="1355760"/>
              <a:ext cx="112680" cy="1126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564440" y="1285920"/>
              <a:ext cx="52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n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9520" y="6255000"/>
              <a:ext cx="47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nte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1480" y="6255000"/>
              <a:ext cx="387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nnuario Statistico della Russia: Manuale Statistico 2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53920" y="6255000"/>
              <a:ext cx="299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Comitato di Stato della Federazione Rus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2320" y="6464520"/>
              <a:ext cx="493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Sulla Statistica (Goskomstat of Russia), Mosca, 2002, Tab. 2.6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06040" y="6464520"/>
              <a:ext cx="175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nnuario Statistico Rus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122240" y="6453360"/>
              <a:ext cx="1582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, Comitatodi Stato del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7640" y="6675480"/>
              <a:ext cx="6226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Federatione Russa Sulla Statistica (Goskomstat Russia), Mosca, 1997, Tab. 2.17.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2352600" y="3618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USSIA: aumento della mortalità, dal 1970-71 al 2001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380880" y="1143000"/>
            <a:ext cx="8376480" cy="5061600"/>
            <a:chOff x="380880" y="1143000"/>
            <a:chExt cx="8376480" cy="5061600"/>
          </a:xfrm>
        </p:grpSpPr>
        <p:sp>
          <p:nvSpPr>
            <p:cNvPr id="552" name=""/>
            <p:cNvSpPr/>
            <p:nvPr/>
          </p:nvSpPr>
          <p:spPr>
            <a:xfrm>
              <a:off x="7585200" y="3490920"/>
              <a:ext cx="1171440" cy="566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380880" y="1143000"/>
              <a:ext cx="8376480" cy="5061600"/>
              <a:chOff x="380880" y="1143000"/>
              <a:chExt cx="8376480" cy="5061600"/>
            </a:xfrm>
          </p:grpSpPr>
          <p:sp>
            <p:nvSpPr>
              <p:cNvPr id="554" name=""/>
              <p:cNvSpPr/>
              <p:nvPr/>
            </p:nvSpPr>
            <p:spPr>
              <a:xfrm>
                <a:off x="1434960" y="1633320"/>
                <a:ext cx="6164280" cy="3765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434960" y="4924440"/>
                <a:ext cx="616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34960" y="4464000"/>
                <a:ext cx="616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34960" y="3989160"/>
                <a:ext cx="616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34960" y="3516120"/>
                <a:ext cx="616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34960" y="3041640"/>
                <a:ext cx="616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434960" y="2581200"/>
                <a:ext cx="616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34960" y="2108160"/>
                <a:ext cx="616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434960" y="1633320"/>
                <a:ext cx="616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434960" y="1633320"/>
                <a:ext cx="6164280" cy="3765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34960" y="1633320"/>
                <a:ext cx="1800" cy="3765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82760" y="5398920"/>
                <a:ext cx="52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82760" y="4924440"/>
                <a:ext cx="52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82760" y="4464000"/>
                <a:ext cx="52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82760" y="3989160"/>
                <a:ext cx="52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82760" y="3516120"/>
                <a:ext cx="52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82760" y="3041640"/>
                <a:ext cx="52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82760" y="2581200"/>
                <a:ext cx="52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82760" y="2108160"/>
                <a:ext cx="52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82760" y="1633320"/>
                <a:ext cx="52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434960" y="5398920"/>
                <a:ext cx="616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143496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160668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176544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193500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210672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226548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243684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260820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276552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293688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309420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326556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343692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359568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376704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393696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409572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426708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443880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459576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476712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493884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509580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526716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543888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559764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576756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593892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609768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26904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642636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659772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676908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692640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709776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726912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742788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759924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514520" y="1844640"/>
                <a:ext cx="6005520" cy="2382840"/>
              </a:xfrm>
              <a:custGeom>
                <a:avLst/>
                <a:gdLst/>
                <a:ahLst/>
                <a:rect l="l" t="t" r="r" b="b"/>
                <a:pathLst>
                  <a:path w="456" h="181">
                    <a:moveTo>
                      <a:pt x="0" y="181"/>
                    </a:moveTo>
                    <a:lnTo>
                      <a:pt x="13" y="179"/>
                    </a:lnTo>
                    <a:lnTo>
                      <a:pt x="26" y="171"/>
                    </a:lnTo>
                    <a:lnTo>
                      <a:pt x="38" y="162"/>
                    </a:lnTo>
                    <a:lnTo>
                      <a:pt x="51" y="138"/>
                    </a:lnTo>
                    <a:lnTo>
                      <a:pt x="64" y="124"/>
                    </a:lnTo>
                    <a:lnTo>
                      <a:pt x="76" y="121"/>
                    </a:lnTo>
                    <a:lnTo>
                      <a:pt x="89" y="115"/>
                    </a:lnTo>
                    <a:lnTo>
                      <a:pt x="102" y="113"/>
                    </a:lnTo>
                    <a:lnTo>
                      <a:pt x="114" y="119"/>
                    </a:lnTo>
                    <a:lnTo>
                      <a:pt x="127" y="100"/>
                    </a:lnTo>
                    <a:lnTo>
                      <a:pt x="139" y="101"/>
                    </a:lnTo>
                    <a:lnTo>
                      <a:pt x="152" y="95"/>
                    </a:lnTo>
                    <a:lnTo>
                      <a:pt x="165" y="90"/>
                    </a:lnTo>
                    <a:lnTo>
                      <a:pt x="177" y="77"/>
                    </a:lnTo>
                    <a:lnTo>
                      <a:pt x="190" y="75"/>
                    </a:lnTo>
                    <a:lnTo>
                      <a:pt x="203" y="77"/>
                    </a:lnTo>
                    <a:lnTo>
                      <a:pt x="215" y="84"/>
                    </a:lnTo>
                    <a:lnTo>
                      <a:pt x="228" y="80"/>
                    </a:lnTo>
                    <a:lnTo>
                      <a:pt x="241" y="65"/>
                    </a:lnTo>
                    <a:lnTo>
                      <a:pt x="253" y="73"/>
                    </a:lnTo>
                    <a:lnTo>
                      <a:pt x="266" y="99"/>
                    </a:lnTo>
                    <a:lnTo>
                      <a:pt x="279" y="97"/>
                    </a:lnTo>
                    <a:lnTo>
                      <a:pt x="291" y="99"/>
                    </a:lnTo>
                    <a:lnTo>
                      <a:pt x="304" y="107"/>
                    </a:lnTo>
                    <a:lnTo>
                      <a:pt x="317" y="114"/>
                    </a:lnTo>
                    <a:lnTo>
                      <a:pt x="329" y="107"/>
                    </a:lnTo>
                    <a:lnTo>
                      <a:pt x="342" y="98"/>
                    </a:lnTo>
                    <a:lnTo>
                      <a:pt x="354" y="36"/>
                    </a:lnTo>
                    <a:lnTo>
                      <a:pt x="367" y="0"/>
                    </a:lnTo>
                    <a:lnTo>
                      <a:pt x="380" y="37"/>
                    </a:lnTo>
                    <a:lnTo>
                      <a:pt x="392" y="59"/>
                    </a:lnTo>
                    <a:lnTo>
                      <a:pt x="405" y="73"/>
                    </a:lnTo>
                    <a:lnTo>
                      <a:pt x="418" y="79"/>
                    </a:lnTo>
                    <a:lnTo>
                      <a:pt x="430" y="52"/>
                    </a:lnTo>
                    <a:lnTo>
                      <a:pt x="443" y="35"/>
                    </a:lnTo>
                    <a:lnTo>
                      <a:pt x="456" y="3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514520" y="4120920"/>
                <a:ext cx="6005520" cy="830160"/>
              </a:xfrm>
              <a:custGeom>
                <a:avLst/>
                <a:gdLst/>
                <a:ahLst/>
                <a:rect l="l" t="t" r="r" b="b"/>
                <a:pathLst>
                  <a:path w="456" h="63">
                    <a:moveTo>
                      <a:pt x="0" y="60"/>
                    </a:moveTo>
                    <a:lnTo>
                      <a:pt x="13" y="63"/>
                    </a:lnTo>
                    <a:lnTo>
                      <a:pt x="26" y="56"/>
                    </a:lnTo>
                    <a:lnTo>
                      <a:pt x="38" y="57"/>
                    </a:lnTo>
                    <a:lnTo>
                      <a:pt x="51" y="48"/>
                    </a:lnTo>
                    <a:lnTo>
                      <a:pt x="64" y="45"/>
                    </a:lnTo>
                    <a:lnTo>
                      <a:pt x="76" y="45"/>
                    </a:lnTo>
                    <a:lnTo>
                      <a:pt x="89" y="41"/>
                    </a:lnTo>
                    <a:lnTo>
                      <a:pt x="102" y="38"/>
                    </a:lnTo>
                    <a:lnTo>
                      <a:pt x="114" y="47"/>
                    </a:lnTo>
                    <a:lnTo>
                      <a:pt x="127" y="35"/>
                    </a:lnTo>
                    <a:lnTo>
                      <a:pt x="139" y="32"/>
                    </a:lnTo>
                    <a:lnTo>
                      <a:pt x="152" y="33"/>
                    </a:lnTo>
                    <a:lnTo>
                      <a:pt x="165" y="34"/>
                    </a:lnTo>
                    <a:lnTo>
                      <a:pt x="177" y="24"/>
                    </a:lnTo>
                    <a:lnTo>
                      <a:pt x="190" y="22"/>
                    </a:lnTo>
                    <a:lnTo>
                      <a:pt x="203" y="22"/>
                    </a:lnTo>
                    <a:lnTo>
                      <a:pt x="215" y="28"/>
                    </a:lnTo>
                    <a:lnTo>
                      <a:pt x="228" y="26"/>
                    </a:lnTo>
                    <a:lnTo>
                      <a:pt x="241" y="13"/>
                    </a:lnTo>
                    <a:lnTo>
                      <a:pt x="253" y="13"/>
                    </a:lnTo>
                    <a:lnTo>
                      <a:pt x="266" y="30"/>
                    </a:lnTo>
                    <a:lnTo>
                      <a:pt x="279" y="28"/>
                    </a:lnTo>
                    <a:lnTo>
                      <a:pt x="291" y="28"/>
                    </a:lnTo>
                    <a:lnTo>
                      <a:pt x="304" y="39"/>
                    </a:lnTo>
                    <a:lnTo>
                      <a:pt x="317" y="44"/>
                    </a:lnTo>
                    <a:lnTo>
                      <a:pt x="329" y="44"/>
                    </a:lnTo>
                    <a:lnTo>
                      <a:pt x="342" y="41"/>
                    </a:lnTo>
                    <a:lnTo>
                      <a:pt x="354" y="14"/>
                    </a:lnTo>
                    <a:lnTo>
                      <a:pt x="367" y="0"/>
                    </a:lnTo>
                    <a:lnTo>
                      <a:pt x="380" y="14"/>
                    </a:lnTo>
                    <a:lnTo>
                      <a:pt x="392" y="23"/>
                    </a:lnTo>
                    <a:lnTo>
                      <a:pt x="405" y="26"/>
                    </a:lnTo>
                    <a:lnTo>
                      <a:pt x="418" y="31"/>
                    </a:lnTo>
                    <a:lnTo>
                      <a:pt x="430" y="18"/>
                    </a:lnTo>
                    <a:lnTo>
                      <a:pt x="443" y="15"/>
                    </a:lnTo>
                    <a:lnTo>
                      <a:pt x="456" y="13"/>
                    </a:lnTo>
                  </a:path>
                </a:pathLst>
              </a:custGeom>
              <a:noFill/>
              <a:ln w="1260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474920" y="418752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25" y="0"/>
                    </a:moveTo>
                    <a:lnTo>
                      <a:pt x="50" y="25"/>
                    </a:lnTo>
                    <a:lnTo>
                      <a:pt x="25" y="49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46280" y="4160520"/>
                <a:ext cx="7920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817640" y="405576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974960" y="393696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146320" y="3620880"/>
                <a:ext cx="7920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317680" y="343692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476440" y="3396960"/>
                <a:ext cx="77760" cy="7956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24" y="0"/>
                    </a:moveTo>
                    <a:lnTo>
                      <a:pt x="49" y="25"/>
                    </a:lnTo>
                    <a:lnTo>
                      <a:pt x="24" y="50"/>
                    </a:lnTo>
                    <a:lnTo>
                      <a:pt x="0" y="2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646360" y="331776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817720" y="329220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976480" y="337176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25" y="0"/>
                    </a:moveTo>
                    <a:lnTo>
                      <a:pt x="50" y="25"/>
                    </a:lnTo>
                    <a:lnTo>
                      <a:pt x="25" y="49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147840" y="3120840"/>
                <a:ext cx="78120" cy="7956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25" y="0"/>
                    </a:moveTo>
                    <a:lnTo>
                      <a:pt x="49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305160" y="313344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76520" y="30556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25" y="0"/>
                    </a:moveTo>
                    <a:lnTo>
                      <a:pt x="50" y="25"/>
                    </a:lnTo>
                    <a:lnTo>
                      <a:pt x="25" y="49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648240" y="2989080"/>
                <a:ext cx="7920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805200" y="281772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76560" y="279216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148280" y="281772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307040" y="2909880"/>
                <a:ext cx="77760" cy="792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25" y="0"/>
                    </a:moveTo>
                    <a:lnTo>
                      <a:pt x="49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476600" y="285732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648320" y="2660400"/>
                <a:ext cx="7920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807080" y="2765160"/>
                <a:ext cx="7920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978440" y="3108240"/>
                <a:ext cx="77760" cy="792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25" y="0"/>
                    </a:moveTo>
                    <a:lnTo>
                      <a:pt x="49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149800" y="3081240"/>
                <a:ext cx="77760" cy="792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24" y="0"/>
                    </a:moveTo>
                    <a:lnTo>
                      <a:pt x="49" y="25"/>
                    </a:lnTo>
                    <a:lnTo>
                      <a:pt x="24" y="50"/>
                    </a:lnTo>
                    <a:lnTo>
                      <a:pt x="0" y="2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307120" y="310824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478480" y="321300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649840" y="330516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807160" y="321300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978520" y="309564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25" y="0"/>
                    </a:moveTo>
                    <a:lnTo>
                      <a:pt x="50" y="24"/>
                    </a:lnTo>
                    <a:lnTo>
                      <a:pt x="25" y="49"/>
                    </a:lnTo>
                    <a:lnTo>
                      <a:pt x="0" y="24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137280" y="2278080"/>
                <a:ext cx="77760" cy="792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25" y="0"/>
                    </a:moveTo>
                    <a:lnTo>
                      <a:pt x="49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308640" y="1804680"/>
                <a:ext cx="77760" cy="7956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24" y="0"/>
                    </a:moveTo>
                    <a:lnTo>
                      <a:pt x="49" y="25"/>
                    </a:lnTo>
                    <a:lnTo>
                      <a:pt x="24" y="50"/>
                    </a:lnTo>
                    <a:lnTo>
                      <a:pt x="0" y="2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478560" y="229212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637320" y="258120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08680" y="276516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980400" y="2844720"/>
                <a:ext cx="77760" cy="792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25" y="0"/>
                    </a:moveTo>
                    <a:lnTo>
                      <a:pt x="49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37360" y="248904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308720" y="226512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480440" y="221292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474920" y="4871880"/>
                <a:ext cx="79200" cy="792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646280" y="4911480"/>
                <a:ext cx="79200" cy="77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17640" y="4819320"/>
                <a:ext cx="79560" cy="78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974960" y="4832280"/>
                <a:ext cx="79200" cy="792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146320" y="4713120"/>
                <a:ext cx="7920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317680" y="4674960"/>
                <a:ext cx="79560" cy="77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476440" y="4674960"/>
                <a:ext cx="77760" cy="77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646360" y="4620960"/>
                <a:ext cx="7920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817720" y="4581360"/>
                <a:ext cx="79560" cy="792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976480" y="4700520"/>
                <a:ext cx="79560" cy="792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147840" y="4543200"/>
                <a:ext cx="78120" cy="77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305160" y="4503600"/>
                <a:ext cx="79560" cy="77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476520" y="4516200"/>
                <a:ext cx="7956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648240" y="4528800"/>
                <a:ext cx="7920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805200" y="4397040"/>
                <a:ext cx="7956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976560" y="4371840"/>
                <a:ext cx="79560" cy="792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148280" y="4371840"/>
                <a:ext cx="79200" cy="792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307040" y="4451040"/>
                <a:ext cx="77760" cy="77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476600" y="4424040"/>
                <a:ext cx="7956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648320" y="4252680"/>
                <a:ext cx="7920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807080" y="4252680"/>
                <a:ext cx="7920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978440" y="4476600"/>
                <a:ext cx="77760" cy="792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149800" y="4451040"/>
                <a:ext cx="77760" cy="77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307120" y="4451040"/>
                <a:ext cx="79200" cy="77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478480" y="4595760"/>
                <a:ext cx="79200" cy="792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49840" y="4660560"/>
                <a:ext cx="7956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07160" y="4660560"/>
                <a:ext cx="7920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978520" y="4620960"/>
                <a:ext cx="7956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137280" y="4265280"/>
                <a:ext cx="7776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308640" y="4081320"/>
                <a:ext cx="77760" cy="792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478560" y="4265280"/>
                <a:ext cx="7956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637320" y="4384440"/>
                <a:ext cx="7956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808680" y="4424040"/>
                <a:ext cx="7956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980400" y="4489200"/>
                <a:ext cx="7776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137360" y="4319280"/>
                <a:ext cx="79560" cy="77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308720" y="4279680"/>
                <a:ext cx="7956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480440" y="4252680"/>
                <a:ext cx="7920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00360" y="114300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024920" y="529272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024920" y="481932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024920" y="435924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024920" y="388440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024920" y="341136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024920" y="293688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92800" y="247644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,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92800" y="200160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,1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92800" y="152856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,2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8000000">
                <a:off x="1175760" y="561168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000000">
                <a:off x="2018880" y="561168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000000">
                <a:off x="2847600" y="561168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8000000">
                <a:off x="3677760" y="561168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8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8000000">
                <a:off x="4506480" y="561168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8000000">
                <a:off x="5349240" y="561168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8000000">
                <a:off x="6179760" y="561168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18000000">
                <a:off x="7009920" y="561168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345560" y="5991120"/>
                <a:ext cx="416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n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6200000">
                <a:off x="-605160" y="3609360"/>
                <a:ext cx="2186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rtalità: Cause ex Cap. I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6200000">
                <a:off x="-554400" y="3348000"/>
                <a:ext cx="2532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(deaths per 100,000 population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808760" y="3647880"/>
                <a:ext cx="355680" cy="18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940520" y="360828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203320" y="3528720"/>
                <a:ext cx="554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omin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808760" y="3924000"/>
                <a:ext cx="355680" cy="180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940520" y="3884400"/>
                <a:ext cx="7956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202960" y="3805200"/>
                <a:ext cx="524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on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rtalità standardizzata per età, 1965-200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alattie cardiovascolar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617220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nte: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nnuario statistico della Russia: Manuale Statistico 2002,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omitato di Stato della Federazione Russa sulla Statistica (Goskomstat Russia), Mosca, 2002, Tab. 6.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15000" y="1371600"/>
            <a:ext cx="0" cy="4876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883400" y="1523880"/>
            <a:ext cx="79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"/>
          <p:cNvGrpSpPr/>
          <p:nvPr/>
        </p:nvGrpSpPr>
        <p:grpSpPr>
          <a:xfrm>
            <a:off x="1440" y="228600"/>
            <a:ext cx="8643960" cy="5864760"/>
            <a:chOff x="1440" y="228600"/>
            <a:chExt cx="8643960" cy="5864760"/>
          </a:xfrm>
        </p:grpSpPr>
        <p:sp>
          <p:nvSpPr>
            <p:cNvPr id="721" name=""/>
            <p:cNvSpPr/>
            <p:nvPr/>
          </p:nvSpPr>
          <p:spPr>
            <a:xfrm>
              <a:off x="925560" y="1033200"/>
              <a:ext cx="7718400" cy="417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25560" y="4372920"/>
              <a:ext cx="771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25560" y="3538440"/>
              <a:ext cx="771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25560" y="2703960"/>
              <a:ext cx="771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25560" y="1869840"/>
              <a:ext cx="771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25560" y="1033200"/>
              <a:ext cx="771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925560" y="1033200"/>
              <a:ext cx="7718400" cy="4174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25560" y="1033200"/>
              <a:ext cx="1440" cy="417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84160" y="520740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84160" y="479016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84160" y="437292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84160" y="395568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84160" y="353844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84160" y="312120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84160" y="270396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84160" y="22867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84160" y="186984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84160" y="145044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84160" y="103320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69760" y="520740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69760" y="437292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69760" y="3538440"/>
              <a:ext cx="55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69760" y="2703960"/>
              <a:ext cx="55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69760" y="186984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69760" y="1033200"/>
              <a:ext cx="55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925560" y="5207400"/>
              <a:ext cx="771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92556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112860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134604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154944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176544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196992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217332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239076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259380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279720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301464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321768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343548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363852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384156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405936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426240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446544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468324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488628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510372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530712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551016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572760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593100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613404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635148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655488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677232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697536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717876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39620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59924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80264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802008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822312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844056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864396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033560" y="1391040"/>
              <a:ext cx="7502400" cy="2386440"/>
            </a:xfrm>
            <a:custGeom>
              <a:avLst/>
              <a:gdLst/>
              <a:ahLst/>
              <a:rect l="l" t="t" r="r" b="b"/>
              <a:pathLst>
                <a:path w="553" h="160">
                  <a:moveTo>
                    <a:pt x="0" y="155"/>
                  </a:moveTo>
                  <a:lnTo>
                    <a:pt x="15" y="149"/>
                  </a:lnTo>
                  <a:lnTo>
                    <a:pt x="30" y="144"/>
                  </a:lnTo>
                  <a:lnTo>
                    <a:pt x="46" y="135"/>
                  </a:lnTo>
                  <a:lnTo>
                    <a:pt x="61" y="127"/>
                  </a:lnTo>
                  <a:lnTo>
                    <a:pt x="77" y="122"/>
                  </a:lnTo>
                  <a:lnTo>
                    <a:pt x="92" y="121"/>
                  </a:lnTo>
                  <a:lnTo>
                    <a:pt x="107" y="123"/>
                  </a:lnTo>
                  <a:lnTo>
                    <a:pt x="123" y="125"/>
                  </a:lnTo>
                  <a:lnTo>
                    <a:pt x="138" y="116"/>
                  </a:lnTo>
                  <a:lnTo>
                    <a:pt x="153" y="111"/>
                  </a:lnTo>
                  <a:lnTo>
                    <a:pt x="169" y="106"/>
                  </a:lnTo>
                  <a:lnTo>
                    <a:pt x="184" y="98"/>
                  </a:lnTo>
                  <a:lnTo>
                    <a:pt x="200" y="99"/>
                  </a:lnTo>
                  <a:lnTo>
                    <a:pt x="215" y="94"/>
                  </a:lnTo>
                  <a:lnTo>
                    <a:pt x="230" y="91"/>
                  </a:lnTo>
                  <a:lnTo>
                    <a:pt x="246" y="90"/>
                  </a:lnTo>
                  <a:lnTo>
                    <a:pt x="261" y="98"/>
                  </a:lnTo>
                  <a:lnTo>
                    <a:pt x="277" y="102"/>
                  </a:lnTo>
                  <a:lnTo>
                    <a:pt x="292" y="97"/>
                  </a:lnTo>
                  <a:lnTo>
                    <a:pt x="307" y="122"/>
                  </a:lnTo>
                  <a:lnTo>
                    <a:pt x="323" y="158"/>
                  </a:lnTo>
                  <a:lnTo>
                    <a:pt x="338" y="160"/>
                  </a:lnTo>
                  <a:lnTo>
                    <a:pt x="353" y="149"/>
                  </a:lnTo>
                  <a:lnTo>
                    <a:pt x="369" y="133"/>
                  </a:lnTo>
                  <a:lnTo>
                    <a:pt x="384" y="126"/>
                  </a:lnTo>
                  <a:lnTo>
                    <a:pt x="400" y="120"/>
                  </a:lnTo>
                  <a:lnTo>
                    <a:pt x="415" y="92"/>
                  </a:lnTo>
                  <a:lnTo>
                    <a:pt x="430" y="27"/>
                  </a:lnTo>
                  <a:lnTo>
                    <a:pt x="446" y="0"/>
                  </a:lnTo>
                  <a:lnTo>
                    <a:pt x="461" y="35"/>
                  </a:lnTo>
                  <a:lnTo>
                    <a:pt x="476" y="50"/>
                  </a:lnTo>
                  <a:lnTo>
                    <a:pt x="492" y="80"/>
                  </a:lnTo>
                  <a:lnTo>
                    <a:pt x="507" y="83"/>
                  </a:lnTo>
                  <a:lnTo>
                    <a:pt x="523" y="65"/>
                  </a:lnTo>
                  <a:lnTo>
                    <a:pt x="538" y="54"/>
                  </a:lnTo>
                  <a:lnTo>
                    <a:pt x="553" y="46"/>
                  </a:lnTo>
                </a:path>
              </a:pathLst>
            </a:custGeom>
            <a:noFill/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033560" y="4372920"/>
              <a:ext cx="7502400" cy="492480"/>
            </a:xfrm>
            <a:custGeom>
              <a:avLst/>
              <a:gdLst/>
              <a:ahLst/>
              <a:rect l="l" t="t" r="r" b="b"/>
              <a:pathLst>
                <a:path w="553" h="33">
                  <a:moveTo>
                    <a:pt x="0" y="33"/>
                  </a:moveTo>
                  <a:lnTo>
                    <a:pt x="15" y="31"/>
                  </a:lnTo>
                  <a:lnTo>
                    <a:pt x="30" y="31"/>
                  </a:lnTo>
                  <a:lnTo>
                    <a:pt x="46" y="30"/>
                  </a:lnTo>
                  <a:lnTo>
                    <a:pt x="61" y="28"/>
                  </a:lnTo>
                  <a:lnTo>
                    <a:pt x="77" y="27"/>
                  </a:lnTo>
                  <a:lnTo>
                    <a:pt x="92" y="27"/>
                  </a:lnTo>
                  <a:lnTo>
                    <a:pt x="107" y="26"/>
                  </a:lnTo>
                  <a:lnTo>
                    <a:pt x="123" y="26"/>
                  </a:lnTo>
                  <a:lnTo>
                    <a:pt x="138" y="24"/>
                  </a:lnTo>
                  <a:lnTo>
                    <a:pt x="153" y="23"/>
                  </a:lnTo>
                  <a:lnTo>
                    <a:pt x="169" y="21"/>
                  </a:lnTo>
                  <a:lnTo>
                    <a:pt x="184" y="20"/>
                  </a:lnTo>
                  <a:lnTo>
                    <a:pt x="200" y="19"/>
                  </a:lnTo>
                  <a:lnTo>
                    <a:pt x="215" y="19"/>
                  </a:lnTo>
                  <a:lnTo>
                    <a:pt x="230" y="18"/>
                  </a:lnTo>
                  <a:lnTo>
                    <a:pt x="246" y="19"/>
                  </a:lnTo>
                  <a:lnTo>
                    <a:pt x="261" y="20"/>
                  </a:lnTo>
                  <a:lnTo>
                    <a:pt x="277" y="20"/>
                  </a:lnTo>
                  <a:lnTo>
                    <a:pt x="292" y="19"/>
                  </a:lnTo>
                  <a:lnTo>
                    <a:pt x="307" y="22"/>
                  </a:lnTo>
                  <a:lnTo>
                    <a:pt x="323" y="29"/>
                  </a:lnTo>
                  <a:lnTo>
                    <a:pt x="338" y="30"/>
                  </a:lnTo>
                  <a:lnTo>
                    <a:pt x="353" y="28"/>
                  </a:lnTo>
                  <a:lnTo>
                    <a:pt x="369" y="26"/>
                  </a:lnTo>
                  <a:lnTo>
                    <a:pt x="384" y="25"/>
                  </a:lnTo>
                  <a:lnTo>
                    <a:pt x="400" y="23"/>
                  </a:lnTo>
                  <a:lnTo>
                    <a:pt x="415" y="17"/>
                  </a:lnTo>
                  <a:lnTo>
                    <a:pt x="430" y="5"/>
                  </a:lnTo>
                  <a:lnTo>
                    <a:pt x="446" y="0"/>
                  </a:lnTo>
                  <a:lnTo>
                    <a:pt x="461" y="4"/>
                  </a:lnTo>
                  <a:lnTo>
                    <a:pt x="476" y="9"/>
                  </a:lnTo>
                  <a:lnTo>
                    <a:pt x="492" y="13"/>
                  </a:lnTo>
                  <a:lnTo>
                    <a:pt x="507" y="14"/>
                  </a:lnTo>
                  <a:lnTo>
                    <a:pt x="523" y="10"/>
                  </a:lnTo>
                  <a:lnTo>
                    <a:pt x="538" y="9"/>
                  </a:lnTo>
                  <a:lnTo>
                    <a:pt x="553" y="7"/>
                  </a:lnTo>
                </a:path>
              </a:pathLst>
            </a:custGeom>
            <a:noFill/>
            <a:ln w="1440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92160" y="3657240"/>
              <a:ext cx="82440" cy="9036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197000" y="356832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400040" y="3493440"/>
              <a:ext cx="81000" cy="9036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5" y="0"/>
                  </a:moveTo>
                  <a:lnTo>
                    <a:pt x="51" y="26"/>
                  </a:lnTo>
                  <a:lnTo>
                    <a:pt x="25" y="52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616040" y="3360240"/>
              <a:ext cx="82440" cy="8892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6" y="0"/>
                  </a:moveTo>
                  <a:lnTo>
                    <a:pt x="52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20880" y="324000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036880" y="3165120"/>
              <a:ext cx="82440" cy="9036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41360" y="315108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444760" y="318060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660760" y="3210120"/>
              <a:ext cx="82440" cy="8892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6" y="0"/>
                  </a:moveTo>
                  <a:lnTo>
                    <a:pt x="52" y="26"/>
                  </a:lnTo>
                  <a:lnTo>
                    <a:pt x="26" y="51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65240" y="307620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68640" y="300240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286080" y="292752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489480" y="2808720"/>
              <a:ext cx="8064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706920" y="282276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09960" y="2747880"/>
              <a:ext cx="81000" cy="9036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5" y="0"/>
                  </a:moveTo>
                  <a:lnTo>
                    <a:pt x="51" y="26"/>
                  </a:lnTo>
                  <a:lnTo>
                    <a:pt x="25" y="52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113360" y="2703960"/>
              <a:ext cx="8064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330800" y="268848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533840" y="280872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751280" y="286812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954680" y="279288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157720" y="3165120"/>
              <a:ext cx="81000" cy="9036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6" y="0"/>
                  </a:moveTo>
                  <a:lnTo>
                    <a:pt x="51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375160" y="370260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578560" y="373248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6"/>
                  </a:lnTo>
                  <a:lnTo>
                    <a:pt x="26" y="51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781600" y="356832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6"/>
                  </a:lnTo>
                  <a:lnTo>
                    <a:pt x="26" y="51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999040" y="3328920"/>
              <a:ext cx="81000" cy="9036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5" y="0"/>
                  </a:moveTo>
                  <a:lnTo>
                    <a:pt x="51" y="26"/>
                  </a:lnTo>
                  <a:lnTo>
                    <a:pt x="25" y="52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202440" y="322596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419880" y="3135600"/>
              <a:ext cx="81000" cy="9036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5" y="0"/>
                  </a:moveTo>
                  <a:lnTo>
                    <a:pt x="51" y="26"/>
                  </a:lnTo>
                  <a:lnTo>
                    <a:pt x="25" y="52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622920" y="2718360"/>
              <a:ext cx="81000" cy="9036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6" y="0"/>
                  </a:moveTo>
                  <a:lnTo>
                    <a:pt x="51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826320" y="174888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6"/>
                  </a:lnTo>
                  <a:lnTo>
                    <a:pt x="26" y="51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043760" y="134748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246800" y="1869840"/>
              <a:ext cx="81000" cy="8856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450200" y="209304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667640" y="254016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870680" y="2583720"/>
              <a:ext cx="81000" cy="9036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6" y="0"/>
                  </a:moveTo>
                  <a:lnTo>
                    <a:pt x="51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088120" y="231624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291520" y="215244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494560" y="2033640"/>
              <a:ext cx="82800" cy="8892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6" y="0"/>
                  </a:moveTo>
                  <a:lnTo>
                    <a:pt x="52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992160" y="4820040"/>
              <a:ext cx="82440" cy="903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97000" y="4790160"/>
              <a:ext cx="81000" cy="903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00040" y="4790160"/>
              <a:ext cx="81000" cy="903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616040" y="4776480"/>
              <a:ext cx="8244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820880" y="474660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36880" y="4730760"/>
              <a:ext cx="8244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241360" y="473076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44760" y="471708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660760" y="4717080"/>
              <a:ext cx="8244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65240" y="4685400"/>
              <a:ext cx="81000" cy="90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68640" y="467136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286080" y="464184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89480" y="4626000"/>
              <a:ext cx="80640" cy="90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706920" y="461232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909960" y="461232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113360" y="4596840"/>
              <a:ext cx="80640" cy="885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330800" y="461232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533840" y="4626000"/>
              <a:ext cx="81000" cy="90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751280" y="4626000"/>
              <a:ext cx="81000" cy="90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954680" y="461232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57720" y="4655520"/>
              <a:ext cx="81000" cy="90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375160" y="476064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578560" y="477648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781600" y="474660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999040" y="471708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02440" y="470124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19880" y="467136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622920" y="458244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826320" y="440280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43760" y="432936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46800" y="438876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450200" y="4462200"/>
              <a:ext cx="81000" cy="903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67640" y="452304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870680" y="4537440"/>
              <a:ext cx="81000" cy="885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088120" y="447804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91520" y="4462200"/>
              <a:ext cx="81000" cy="903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494560" y="4432320"/>
              <a:ext cx="82800" cy="903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403360" y="22860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092320" y="54288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93000" y="508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03280" y="4254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03280" y="34196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03280" y="25837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03280" y="1748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03280" y="914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rot="18000000">
              <a:off x="679320" y="546156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6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rot="18000000">
              <a:off x="1724040" y="546156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7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18000000">
              <a:off x="2755800" y="546156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7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18000000">
              <a:off x="3801960" y="546156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rot="18000000">
              <a:off x="4844880" y="546156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8000000">
              <a:off x="5889600" y="546156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8000000">
              <a:off x="6933960" y="546156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18000000">
              <a:off x="7978680" y="546156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601160" y="587988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16200000">
              <a:off x="-1403640" y="2921040"/>
              <a:ext cx="3009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asso di Mortalità: Cause ex capitolo XI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16200000">
              <a:off x="-763920" y="3233880"/>
              <a:ext cx="216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decessi per 100,000 abitanti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22640" y="1227240"/>
              <a:ext cx="2563920" cy="43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298680" y="1436760"/>
              <a:ext cx="366840" cy="1440"/>
            </a:xfrm>
            <a:prstGeom prst="line">
              <a:avLst/>
            </a:prstGeom>
            <a:ln w="144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35480" y="1391040"/>
              <a:ext cx="80640" cy="9072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5" y="0"/>
                  </a:moveTo>
                  <a:lnTo>
                    <a:pt x="51" y="26"/>
                  </a:lnTo>
                  <a:lnTo>
                    <a:pt x="25" y="52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706200" y="1302120"/>
              <a:ext cx="55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omi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479840" y="1436760"/>
              <a:ext cx="365040" cy="1440"/>
            </a:xfrm>
            <a:prstGeom prst="line">
              <a:avLst/>
            </a:prstGeom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614840" y="1391040"/>
              <a:ext cx="81000" cy="90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885200" y="1302120"/>
              <a:ext cx="52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n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rtalità standardizzata per età: Decessi per incidenti o lesioni, 1965-20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603576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nte: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nnuario statistico della Russia: Manuale Statistico 2002,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omitato di Stato della Federazione Russa sulla Statistica (Goskomstat Russia), Mosca, 2002, Tab. 6.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990720"/>
            <a:ext cx="0" cy="48765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407280" y="838080"/>
            <a:ext cx="79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22:55:28Z</dcterms:created>
  <dc:creator>***********</dc:creator>
  <dc:description/>
  <dc:language>en-US</dc:language>
  <cp:lastModifiedBy>***********</cp:lastModifiedBy>
  <dcterms:modified xsi:type="dcterms:W3CDTF">2004-05-22T12:22:26Z</dcterms:modified>
  <cp:revision>18</cp:revision>
  <dc:subject/>
  <dc:title>La crisi demografica dell’ est</dc:title>
</cp:coreProperties>
</file>